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71640" y="981000"/>
            <a:ext cx="7561080" cy="460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Information </a:t>
            </a:r>
            <a:endParaRPr b="0" lang="en-US" sz="24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Processing</a:t>
            </a:r>
            <a:endParaRPr b="0" lang="en-US" sz="24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52480" y="2286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rceptual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990720"/>
            <a:ext cx="8686800" cy="55825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tion: make sense of the incoming information / interpret sens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g. see that opponent is striking the tennis ball in 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the information from the display, picked up by the receptors is held for a fraction of a second in the short-term sensory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fore a decision can be made, all the information that has been taken in has to be filtered or 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668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ort-term Sensory Store (ST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838080"/>
            <a:ext cx="8534520" cy="2244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is a temporary and brief holding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lds ALL the information from th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gins to filter and code the information using SELECTIVE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276720"/>
            <a:ext cx="8763120" cy="30960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lective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is separates th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information into stimulus (important / relevant) and noise (irrelevant) inform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stimulus is passed onto the short-term memor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Noise is disregar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44956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304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Translatory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8534160" cy="40510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anslat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cid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happening and what to do about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cognise the input and make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cis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n the action to be 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cis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aking resulting from the short term and long term memory inte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hort Term Memory (S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43000"/>
            <a:ext cx="8686800" cy="52434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imulus that has been selected (by selective attention) passes to the short term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ive attention is important since the STM can only process around 7 pieces of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e STM has a very limited capacity – information held for about 30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hort term memory is also known as the ‘working memory’ as it links the short term sensory store and the long term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ng Term Memory (L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0720"/>
            <a:ext cx="8686800" cy="610164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ortant areas of information are passed onto the LTM for retrieval and use at a later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LTM is a large storage system (unlimited 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the images and pictures of skills and practices have been filed away (like data files in the compu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re stored in a logical sequences called a ‘motor programm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TM compares / retrieves information from the LTM to help make the dec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357192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57600" y="3886200"/>
            <a:ext cx="2286000" cy="38088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819520"/>
            <a:ext cx="2590560" cy="38088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1752480"/>
            <a:ext cx="1219320" cy="38124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6095880"/>
            <a:ext cx="2286000" cy="38124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4952880"/>
            <a:ext cx="2286000" cy="38124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685800"/>
            <a:ext cx="2286000" cy="38088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3571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ffector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295280"/>
            <a:ext cx="8382240" cy="45018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ffector Control: putting a motor programme into effect / doing the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e decision for the appropriate action has been m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mpulses are sent via a network of nerves called the ‘effector mechanisms’ to the working mus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35053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ing’s Model (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0" cy="679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57400" y="533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cular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447920"/>
            <a:ext cx="8001000" cy="253116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Comic Sans MS"/>
              </a:rPr>
              <a:t>On receiving an impulse, the muscles required to perform the movement begin to contract and a response, such as the tennis return, can take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962520"/>
            <a:ext cx="7848360" cy="1595880"/>
          </a:xfrm>
          <a:prstGeom prst="rect">
            <a:avLst/>
          </a:prstGeom>
          <a:solidFill>
            <a:srgbClr val="d9b38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utpu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is data that is in the display after the action that has take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-24000"/>
          </a:blip>
          <a:srcRect l="4872" t="0" r="0" b="0"/>
          <a:stretch/>
        </p:blipFill>
        <p:spPr>
          <a:xfrm>
            <a:off x="380880" y="0"/>
            <a:ext cx="84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09680" y="22860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447920"/>
            <a:ext cx="8153640" cy="4768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1f20"/>
                </a:solidFill>
                <a:latin typeface="Comic Sans MS"/>
              </a:rPr>
              <a:t>Feedback is information acquired during and after the response and is used to aid movement corr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1f20"/>
                </a:solidFill>
                <a:latin typeface="Comic Sans MS"/>
              </a:rPr>
              <a:t>Feedback either tells performers what they are doing wrong or gives reinforcement for correct actions so that they become hab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3049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put data from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14400"/>
            <a:ext cx="8534520" cy="9471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display is the sporting environment from which information is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133720"/>
            <a:ext cx="7467480" cy="32407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porting example: e.g. Tennis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ro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ball / 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player / umpire, ball boys/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ather (rain / wind / sun)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410080"/>
            <a:ext cx="830592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ever is going on in or around the vicinity of the game regardless of its relevance or impor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380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eptor sys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219320"/>
            <a:ext cx="8686800" cy="137376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e organs, sensory systems and receptors take in the sensory information from th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66880"/>
            <a:ext cx="8229600" cy="5205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ceptors can be categorised into 3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733920"/>
            <a:ext cx="4191120" cy="58140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Exterocepto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724280"/>
            <a:ext cx="4191120" cy="581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Proprio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5715000"/>
            <a:ext cx="4267440" cy="581400"/>
          </a:xfrm>
          <a:prstGeom prst="rect">
            <a:avLst/>
          </a:prstGeom>
          <a:solidFill>
            <a:srgbClr val="158b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3. Introcept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09680" y="15228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xterocepto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686800" cy="5334120"/>
          </a:xfrm>
          <a:prstGeom prst="foldedCorner">
            <a:avLst>
              <a:gd name="adj" fmla="val 152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eive extrinsic information from OUTSIDE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dy, therefore from the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es from the 5 sen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sual (s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dition (hear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ive an example for each from a sporting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05120" y="152280"/>
            <a:ext cx="5333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ropriocepto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219320"/>
            <a:ext cx="8458200" cy="5410080"/>
          </a:xfrm>
          <a:prstGeom prst="foldedCorner">
            <a:avLst>
              <a:gd name="adj" fmla="val 1317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se are the sensors inside the body, foun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muscles, joints and they prov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ntrinsic information regarding th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ccur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y help to provide a sense of balance –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alance of feet when preparing to receive a 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n 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sense of kinaesthesis which is the i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eeling of tension within the muscles and j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.g. kinaesthesis informs us the arm in rai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n the serve without the need to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905120" y="152280"/>
            <a:ext cx="5333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Introcepto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219320"/>
            <a:ext cx="8458200" cy="5410080"/>
          </a:xfrm>
          <a:prstGeom prst="foldedCorner">
            <a:avLst>
              <a:gd name="adj" fmla="val 25504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 from the internal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body, heart, lungs, digestive system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sensory nervous system passes the informatio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entral mechanism of the b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.g. how fast the heart is beating – this allow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dy to register fat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7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7:56:30Z</dcterms:created>
  <dc:creator>molly nicholas</dc:creator>
  <dc:description/>
  <dc:language>en-US</dc:language>
  <cp:lastModifiedBy>sullivang</cp:lastModifiedBy>
  <dcterms:modified xsi:type="dcterms:W3CDTF">2011-05-21T23:41:59Z</dcterms:modified>
  <cp:revision>9</cp:revision>
  <dc:subject/>
  <dc:title>PowerPoint Presentation</dc:title>
</cp:coreProperties>
</file>